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16E8-8CC4-4D2F-9269-F552F002E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EA62-C3D6-4D3A-B70A-9A61023C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9396-9C9A-4F8A-8D23-3C0E3146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37E6-8215-43E8-89B1-055A235B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909A-E7EF-4AAC-AF12-FFCB4770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A1E3-3723-404E-A1F9-74A5585B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FD2B-9019-40C2-B136-D935B073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8D8A-E110-4141-A0D2-CBB37F1E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1055-01D8-477E-B157-D8B86DA8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687D-983C-4141-A54B-91E265B3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DD32-263C-444E-8B76-674326FB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3D57-4DAD-4F73-B4C9-9885988B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84CC-8EB9-4E38-8453-410CC41D0C1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opertina"/>
          <p:cNvPicPr/>
          <p:nvPr/>
        </p:nvPicPr>
        <p:blipFill>
          <a:blip r:embed="rId1"/>
          <a:stretch/>
        </p:blipFill>
        <p:spPr>
          <a:xfrm>
            <a:off x="817560" y="385920"/>
            <a:ext cx="5430960" cy="7767360"/>
          </a:xfrm>
          <a:prstGeom prst="rect">
            <a:avLst/>
          </a:prstGeom>
          <a:ln w="7632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2" name="Text Box 3"/>
          <p:cNvSpPr/>
          <p:nvPr/>
        </p:nvSpPr>
        <p:spPr>
          <a:xfrm>
            <a:off x="2438280" y="860256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Roma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2"/>
          <p:cNvPicPr/>
          <p:nvPr/>
        </p:nvPicPr>
        <p:blipFill>
          <a:blip r:embed="rId1"/>
          <a:stretch/>
        </p:blipFill>
        <p:spPr>
          <a:xfrm>
            <a:off x="0" y="11160"/>
            <a:ext cx="6858000" cy="913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6858000" cy="911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5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6"/>
          <p:cNvPicPr/>
          <p:nvPr/>
        </p:nvPicPr>
        <p:blipFill>
          <a:blip r:embed="rId1"/>
          <a:stretch/>
        </p:blipFill>
        <p:spPr>
          <a:xfrm>
            <a:off x="20520" y="0"/>
            <a:ext cx="68374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manistica</dc:creator>
  <dc:description/>
  <dc:language>en-US</dc:language>
  <cp:lastModifiedBy>u.indire</cp:lastModifiedBy>
  <dcterms:modified xsi:type="dcterms:W3CDTF">2021-02-26T11:11:1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